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6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4.jpeg" ContentType="image/jpeg"/>
  <Override PartName="/ppt/media/image10.wmf" ContentType="image/x-wmf"/>
  <Override PartName="/ppt/media/image12.wmf" ContentType="image/x-wmf"/>
  <Override PartName="/ppt/media/chimes.wav" ContentType="audio/x-wav"/>
  <Override PartName="/ppt/media/image16.jpeg" ContentType="image/jpeg"/>
  <Override PartName="/ppt/media/image11.wmf" ContentType="image/x-wmf"/>
  <Override PartName="/ppt/media/image22.wmf" ContentType="image/x-wmf"/>
  <Override PartName="/ppt/media/image2.gif" ContentType="image/gif"/>
  <Override PartName="/ppt/media/image21.wmf" ContentType="image/x-wmf"/>
  <Override PartName="/ppt/media/image19.wmf" ContentType="image/x-wmf"/>
  <Override PartName="/ppt/media/image23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3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C70-2883-498D-AF58-41113A4E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D89-E6C8-4CE0-9E6E-7EA38CC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30A-D2F8-492A-BF04-6EDAFAA7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86-8F09-4DBF-889D-5FC98204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9F6-9500-4DED-8215-6CF2E33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773-C09F-4952-8ED5-218ED76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09C-D257-474E-87D0-40204FF4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52B-8083-4B93-AD90-63485833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789-967D-42D1-BD37-B91626C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AF1-4E6D-4DB4-904A-07D3C67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69E-5F74-43E5-A604-3458117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0C9-D0A1-4F5F-BA13-6D4E82D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ADAD-7373-4EA2-90BE-71F2BE00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5400000">
            <a:off x="6327720" y="2394000"/>
            <a:ext cx="2897280" cy="13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66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殿堂</a:t>
            </a:r>
            <a:endParaRPr b="1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66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3" descr="0030"/>
          <p:cNvPicPr/>
          <p:nvPr/>
        </p:nvPicPr>
        <p:blipFill>
          <a:blip r:embed="rId1"/>
          <a:stretch/>
        </p:blipFill>
        <p:spPr>
          <a:xfrm>
            <a:off x="179280" y="692280"/>
            <a:ext cx="1079640" cy="88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IRDTRAN"/>
          <p:cNvPicPr/>
          <p:nvPr/>
        </p:nvPicPr>
        <p:blipFill>
          <a:blip r:embed="rId2"/>
          <a:stretch/>
        </p:blipFill>
        <p:spPr>
          <a:xfrm>
            <a:off x="5724360" y="765000"/>
            <a:ext cx="1297080" cy="1081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 rot="243600">
            <a:off x="223560" y="2082960"/>
            <a:ext cx="6626160" cy="24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宋体"/>
              </a:rPr>
              <a:t>请跟我一起走进数学的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89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不等式的基本性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1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79280" y="357336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的两边都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加上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或减去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个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等号方向不变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得到的不等式仍成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00000" y="5373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从上面的变化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发现了什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tutu48"/>
          <p:cNvPicPr/>
          <p:nvPr/>
        </p:nvPicPr>
        <p:blipFill>
          <a:blip r:embed="rId1"/>
          <a:stretch/>
        </p:blipFill>
        <p:spPr>
          <a:xfrm>
            <a:off x="-152280" y="-304920"/>
            <a:ext cx="1268280" cy="18068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784080" y="487440"/>
            <a:ext cx="18669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比较大小</a:t>
            </a:r>
            <a:endParaRPr b="1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371600" y="182880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8480" y="3900600"/>
            <a:ext cx="38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8600" y="2743200"/>
            <a:ext cx="398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2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676520" y="27432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019920" y="1895400"/>
            <a:ext cx="20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724280" y="2809800"/>
            <a:ext cx="42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-2)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6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3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54480" y="3903840"/>
            <a:ext cx="50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6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6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714680" y="39006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6629400" y="28195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656400" y="38862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4381560" y="16765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9280" y="26028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不等式的基本性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2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360" y="1212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等式的两边都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乘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或都除以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同一个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正数</a:t>
            </a: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不等号方向不变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得到的不等式仍成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630360" y="4118040"/>
            <a:ext cx="919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4446720" y="5170320"/>
            <a:ext cx="2066040" cy="1428120"/>
            <a:chOff x="4446720" y="5170320"/>
            <a:chExt cx="2066040" cy="1428120"/>
          </a:xfrm>
        </p:grpSpPr>
        <p:sp>
          <p:nvSpPr>
            <p:cNvPr id="165" name="Line 27"/>
            <p:cNvSpPr/>
            <p:nvPr/>
          </p:nvSpPr>
          <p:spPr>
            <a:xfrm>
              <a:off x="444672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4448880" y="5170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9"/>
            <p:cNvSpPr/>
            <p:nvPr/>
          </p:nvSpPr>
          <p:spPr>
            <a:xfrm>
              <a:off x="4448880" y="57416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595800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1"/>
            <p:cNvSpPr/>
            <p:nvPr/>
          </p:nvSpPr>
          <p:spPr>
            <a:xfrm>
              <a:off x="5960160" y="517032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2"/>
            <p:cNvSpPr/>
            <p:nvPr/>
          </p:nvSpPr>
          <p:spPr>
            <a:xfrm>
              <a:off x="5960160" y="5773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33"/>
          <p:cNvSpPr/>
          <p:nvPr/>
        </p:nvSpPr>
        <p:spPr>
          <a:xfrm>
            <a:off x="665640" y="5415120"/>
            <a:ext cx="32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5078160" y="53737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2557440" y="54450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15987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等式的两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都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乘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或都除以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同一个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负数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必须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把不等号的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方向改变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所得的不等式成立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95280" y="4118040"/>
            <a:ext cx="919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4211640" y="5170320"/>
            <a:ext cx="2066040" cy="1428120"/>
            <a:chOff x="4211640" y="5170320"/>
            <a:chExt cx="2066040" cy="1428120"/>
          </a:xfrm>
        </p:grpSpPr>
        <p:sp>
          <p:nvSpPr>
            <p:cNvPr id="177" name="Line 8"/>
            <p:cNvSpPr/>
            <p:nvPr/>
          </p:nvSpPr>
          <p:spPr>
            <a:xfrm>
              <a:off x="421164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4213800" y="5170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4213800" y="57416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572292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5725080" y="517032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725080" y="5773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5"/>
          <p:cNvSpPr/>
          <p:nvPr/>
        </p:nvSpPr>
        <p:spPr>
          <a:xfrm>
            <a:off x="430920" y="5415120"/>
            <a:ext cx="32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798800" y="5342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320560" y="5415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79280" y="26028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不等式的基本性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3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ject 8" descr=""/>
          <p:cNvPicPr/>
          <p:nvPr/>
        </p:nvPicPr>
        <p:blipFill>
          <a:blip r:embed="rId1"/>
          <a:stretch/>
        </p:blipFill>
        <p:spPr>
          <a:xfrm>
            <a:off x="216000" y="1484280"/>
            <a:ext cx="8028000" cy="4942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2743200" y="22096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276720" y="32004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733920" y="48769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276720" y="40384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495680" y="5715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403280" y="476280"/>
            <a:ext cx="5410440" cy="8240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尝 试 反 馈，巩 固 知 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895480" y="71136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对错并说明理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1851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&lt;0,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+1&lt;1                    (      )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80880" y="2787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 × 2&gt; -5 ×2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&lt; -5       (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80880" y="3724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&lt;b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a&lt; 3 b                      (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80880" y="4616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6a &lt; -6 b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&lt; b                 (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7391520" y="1790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7391520" y="27986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684360" y="692280"/>
            <a:ext cx="2274840" cy="6332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7467480" y="37353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7543800" y="463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700360" y="549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判断对错并说明理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7391520" y="1371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391520" y="2362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24000" y="620640"/>
            <a:ext cx="2274840" cy="6336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467480" y="44038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46748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95280" y="1447920"/>
            <a:ext cx="83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&gt;b,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a &lt; -b 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395280" y="2362320"/>
            <a:ext cx="82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x &gt;0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 &gt; 0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80880" y="3429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&lt;1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a &lt; a 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380880" y="4419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&gt;0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a &gt; 2a 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301760" y="907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解方程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836360" y="24210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 +5 =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133080" y="39337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645440" y="393372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2 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3276720" y="1988640"/>
            <a:ext cx="0" cy="57636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276720" y="1989000"/>
            <a:ext cx="280800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6084720" y="1989000"/>
            <a:ext cx="0" cy="216072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7"/>
          <p:cNvGrpSpPr/>
          <p:nvPr/>
        </p:nvGrpSpPr>
        <p:grpSpPr>
          <a:xfrm>
            <a:off x="5724360" y="3933720"/>
            <a:ext cx="1195200" cy="1191240"/>
            <a:chOff x="5724360" y="3933720"/>
            <a:chExt cx="1195200" cy="1191240"/>
          </a:xfrm>
        </p:grpSpPr>
        <p:sp>
          <p:nvSpPr>
            <p:cNvPr id="222" name="Rectangle 15"/>
            <p:cNvSpPr/>
            <p:nvPr/>
          </p:nvSpPr>
          <p:spPr>
            <a:xfrm>
              <a:off x="5724360" y="4076640"/>
              <a:ext cx="1195200" cy="100800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>
              <a:off x="5725440" y="3933720"/>
              <a:ext cx="99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-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2599920" y="2421000"/>
            <a:ext cx="1305000" cy="1191240"/>
            <a:chOff x="2599920" y="2421000"/>
            <a:chExt cx="1305000" cy="1191240"/>
          </a:xfrm>
        </p:grpSpPr>
        <p:sp>
          <p:nvSpPr>
            <p:cNvPr id="225" name="Rectangle 10"/>
            <p:cNvSpPr/>
            <p:nvPr/>
          </p:nvSpPr>
          <p:spPr>
            <a:xfrm>
              <a:off x="2631600" y="2565360"/>
              <a:ext cx="1273320" cy="93492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2599920" y="2421000"/>
              <a:ext cx="122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+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20"/>
          <p:cNvSpPr/>
          <p:nvPr/>
        </p:nvSpPr>
        <p:spPr>
          <a:xfrm>
            <a:off x="3998880" y="40053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958800" y="2492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移项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39840" y="549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解不等式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836720" y="242100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 +5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33080" y="39337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645440" y="393372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1 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3276720" y="1988640"/>
            <a:ext cx="0" cy="57636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3276720" y="1989000"/>
            <a:ext cx="3095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6300720" y="1989000"/>
            <a:ext cx="0" cy="216072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5724360" y="3933720"/>
            <a:ext cx="1195200" cy="1191240"/>
            <a:chOff x="5724360" y="3933720"/>
            <a:chExt cx="1195200" cy="1191240"/>
          </a:xfrm>
        </p:grpSpPr>
        <p:sp>
          <p:nvSpPr>
            <p:cNvPr id="237" name="Rectangle 10"/>
            <p:cNvSpPr/>
            <p:nvPr/>
          </p:nvSpPr>
          <p:spPr>
            <a:xfrm>
              <a:off x="5724360" y="4076640"/>
              <a:ext cx="1195200" cy="100800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5725440" y="3933720"/>
              <a:ext cx="99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-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2"/>
          <p:cNvGrpSpPr/>
          <p:nvPr/>
        </p:nvGrpSpPr>
        <p:grpSpPr>
          <a:xfrm>
            <a:off x="2599920" y="2421000"/>
            <a:ext cx="1305000" cy="1191240"/>
            <a:chOff x="2599920" y="2421000"/>
            <a:chExt cx="1305000" cy="1191240"/>
          </a:xfrm>
        </p:grpSpPr>
        <p:sp>
          <p:nvSpPr>
            <p:cNvPr id="240" name="Rectangle 13"/>
            <p:cNvSpPr/>
            <p:nvPr/>
          </p:nvSpPr>
          <p:spPr>
            <a:xfrm>
              <a:off x="2631600" y="2565360"/>
              <a:ext cx="1273320" cy="93492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2599920" y="2421000"/>
              <a:ext cx="122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+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5"/>
          <p:cNvSpPr/>
          <p:nvPr/>
        </p:nvSpPr>
        <p:spPr>
          <a:xfrm>
            <a:off x="3966120" y="3933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6958800" y="2492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移项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1403280" y="5661000"/>
            <a:ext cx="855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测评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792360" y="282600"/>
            <a:ext cx="647460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巩固练习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＞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填“＜”或“＞”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1)a-3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-3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2) 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3) -4a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-4b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Object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746280" cy="79380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5" descr=""/>
          <p:cNvPicPr/>
          <p:nvPr/>
        </p:nvPicPr>
        <p:blipFill>
          <a:blip r:embed="rId2"/>
          <a:stretch/>
        </p:blipFill>
        <p:spPr>
          <a:xfrm>
            <a:off x="3419640" y="3986280"/>
            <a:ext cx="792000" cy="1074600"/>
          </a:xfrm>
          <a:prstGeom prst="rect">
            <a:avLst/>
          </a:prstGeom>
          <a:ln w="0">
            <a:noFill/>
          </a:ln>
        </p:spPr>
      </p:pic>
      <p:sp>
        <p:nvSpPr>
          <p:cNvPr id="248" name="Line 9"/>
          <p:cNvSpPr/>
          <p:nvPr/>
        </p:nvSpPr>
        <p:spPr>
          <a:xfrm>
            <a:off x="2268360" y="47973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052720" y="24210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341440" y="3860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197080" y="52293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&lt;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900000" y="2421000"/>
            <a:ext cx="705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00"/>
                  </a:solidFill>
                  <a:round/>
                </a:ln>
                <a:blipFill rotWithShape="0">
                  <a:blip r:embed="rId1">
                    <a:alphaModFix amt="73000"/>
                  </a:blip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不等式的性质</a:t>
            </a:r>
            <a:endParaRPr b="1" lang="en-US" sz="5400" spc="1" strike="noStrike">
              <a:ln w="19080">
                <a:solidFill>
                  <a:srgbClr val="99cc00"/>
                </a:solidFill>
                <a:round/>
              </a:ln>
              <a:blipFill rotWithShape="0">
                <a:blip r:embed="rId2">
                  <a:alphaModFix amt="73000"/>
                </a:blip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019320" y="58680"/>
            <a:ext cx="420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678"/>
          <p:cNvPicPr/>
          <p:nvPr/>
        </p:nvPicPr>
        <p:blipFill>
          <a:blip r:embed="rId3"/>
          <a:stretch/>
        </p:blipFill>
        <p:spPr>
          <a:xfrm>
            <a:off x="0" y="5589720"/>
            <a:ext cx="1765440" cy="104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gif003[1]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7885080" y="260280"/>
            <a:ext cx="77148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巩固：解下列不等式。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11280" y="119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5"/>
          <p:cNvGrpSpPr/>
          <p:nvPr/>
        </p:nvGrpSpPr>
        <p:grpSpPr>
          <a:xfrm>
            <a:off x="4500720" y="2492280"/>
            <a:ext cx="1101240" cy="1873800"/>
            <a:chOff x="4500720" y="2492280"/>
            <a:chExt cx="1101240" cy="1873800"/>
          </a:xfrm>
        </p:grpSpPr>
        <p:sp>
          <p:nvSpPr>
            <p:cNvPr id="255" name="Line 21"/>
            <p:cNvSpPr/>
            <p:nvPr/>
          </p:nvSpPr>
          <p:spPr>
            <a:xfrm>
              <a:off x="4500720" y="3429000"/>
              <a:ext cx="1079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4573800" y="2492280"/>
              <a:ext cx="102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4718160" y="335772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4"/>
          <p:cNvSpPr/>
          <p:nvPr/>
        </p:nvSpPr>
        <p:spPr>
          <a:xfrm>
            <a:off x="3790800" y="29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＞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3257640" y="4513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3935520" y="4581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＞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718160" y="4653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2636640" y="2349360"/>
            <a:ext cx="1232280" cy="1945080"/>
            <a:chOff x="2636640" y="2349360"/>
            <a:chExt cx="1232280" cy="1945080"/>
          </a:xfrm>
        </p:grpSpPr>
        <p:sp>
          <p:nvSpPr>
            <p:cNvPr id="263" name="Text Box 20"/>
            <p:cNvSpPr/>
            <p:nvPr/>
          </p:nvSpPr>
          <p:spPr>
            <a:xfrm>
              <a:off x="2636640" y="2349360"/>
              <a:ext cx="123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宋体"/>
                </a:rPr>
                <a:t>3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2843280" y="3429000"/>
              <a:ext cx="720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>
              <a:off x="2918160" y="328608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68436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4908600" y="1700280"/>
            <a:ext cx="1101240" cy="1873800"/>
            <a:chOff x="4908600" y="1700280"/>
            <a:chExt cx="1101240" cy="1873800"/>
          </a:xfrm>
        </p:grpSpPr>
        <p:sp>
          <p:nvSpPr>
            <p:cNvPr id="268" name="Line 7"/>
            <p:cNvSpPr/>
            <p:nvPr/>
          </p:nvSpPr>
          <p:spPr>
            <a:xfrm>
              <a:off x="4908600" y="2637000"/>
              <a:ext cx="1079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4981680" y="1700280"/>
              <a:ext cx="102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25680" y="2565720"/>
              <a:ext cx="85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Arial"/>
                </a:rPr>
                <a:t>-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4054320" y="206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521160" y="3649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199040" y="3718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981320" y="3789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8"/>
          <p:cNvGrpSpPr/>
          <p:nvPr/>
        </p:nvGrpSpPr>
        <p:grpSpPr>
          <a:xfrm>
            <a:off x="2556000" y="1557360"/>
            <a:ext cx="1545840" cy="1943280"/>
            <a:chOff x="2556000" y="1557360"/>
            <a:chExt cx="1545840" cy="1943280"/>
          </a:xfrm>
        </p:grpSpPr>
        <p:sp>
          <p:nvSpPr>
            <p:cNvPr id="276" name="Text Box 15"/>
            <p:cNvSpPr/>
            <p:nvPr/>
          </p:nvSpPr>
          <p:spPr>
            <a:xfrm>
              <a:off x="2575440" y="1557360"/>
              <a:ext cx="152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宋体"/>
                </a:rPr>
                <a:t>-3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2556000" y="263700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2701800" y="2492280"/>
              <a:ext cx="85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ff"/>
                  </a:solidFill>
                  <a:latin typeface="Arial"/>
                </a:rPr>
                <a:t>-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-325440" y="395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(3)        x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2482200" y="135000"/>
            <a:ext cx="864000" cy="2099160"/>
            <a:chOff x="2482200" y="135000"/>
            <a:chExt cx="864000" cy="2099160"/>
          </a:xfrm>
        </p:grpSpPr>
        <p:sp>
          <p:nvSpPr>
            <p:cNvPr id="281" name="Line 11"/>
            <p:cNvSpPr/>
            <p:nvPr/>
          </p:nvSpPr>
          <p:spPr>
            <a:xfrm flipV="1">
              <a:off x="2509560" y="1187640"/>
              <a:ext cx="83664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>
              <a:off x="2482200" y="10429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3"/>
            <p:cNvSpPr/>
            <p:nvPr/>
          </p:nvSpPr>
          <p:spPr>
            <a:xfrm>
              <a:off x="2482200" y="1350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3"/>
          <p:cNvGrpSpPr/>
          <p:nvPr/>
        </p:nvGrpSpPr>
        <p:grpSpPr>
          <a:xfrm>
            <a:off x="5075280" y="2133720"/>
            <a:ext cx="2736000" cy="2094840"/>
            <a:chOff x="5075280" y="2133720"/>
            <a:chExt cx="2736000" cy="2094840"/>
          </a:xfrm>
        </p:grpSpPr>
        <p:sp>
          <p:nvSpPr>
            <p:cNvPr id="285" name="Text Box 17"/>
            <p:cNvSpPr/>
            <p:nvPr/>
          </p:nvSpPr>
          <p:spPr>
            <a:xfrm>
              <a:off x="5075280" y="2563560"/>
              <a:ext cx="202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-6×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8"/>
            <p:cNvGrpSpPr/>
            <p:nvPr/>
          </p:nvGrpSpPr>
          <p:grpSpPr>
            <a:xfrm>
              <a:off x="6899400" y="2133720"/>
              <a:ext cx="911880" cy="2094840"/>
              <a:chOff x="6899400" y="2133720"/>
              <a:chExt cx="911880" cy="2094840"/>
            </a:xfrm>
          </p:grpSpPr>
          <p:sp>
            <p:nvSpPr>
              <p:cNvPr id="287" name="Line 19"/>
              <p:cNvSpPr/>
              <p:nvPr/>
            </p:nvSpPr>
            <p:spPr>
              <a:xfrm flipV="1">
                <a:off x="6928560" y="3180960"/>
                <a:ext cx="882720" cy="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20"/>
              <p:cNvSpPr/>
              <p:nvPr/>
            </p:nvSpPr>
            <p:spPr>
              <a:xfrm>
                <a:off x="6899400" y="30373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21"/>
              <p:cNvSpPr/>
              <p:nvPr/>
            </p:nvSpPr>
            <p:spPr>
              <a:xfrm>
                <a:off x="6899400" y="21337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 Box 22"/>
          <p:cNvSpPr/>
          <p:nvPr/>
        </p:nvSpPr>
        <p:spPr>
          <a:xfrm>
            <a:off x="4205520" y="26370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348000" y="4221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≤-9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5"/>
          <p:cNvGrpSpPr/>
          <p:nvPr/>
        </p:nvGrpSpPr>
        <p:grpSpPr>
          <a:xfrm>
            <a:off x="1404360" y="2124000"/>
            <a:ext cx="2735640" cy="2180160"/>
            <a:chOff x="1404360" y="2124000"/>
            <a:chExt cx="2735640" cy="2180160"/>
          </a:xfrm>
        </p:grpSpPr>
        <p:sp>
          <p:nvSpPr>
            <p:cNvPr id="293" name="Text Box 16"/>
            <p:cNvSpPr/>
            <p:nvPr/>
          </p:nvSpPr>
          <p:spPr>
            <a:xfrm>
              <a:off x="2125080" y="25639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5"/>
            <p:cNvGrpSpPr/>
            <p:nvPr/>
          </p:nvGrpSpPr>
          <p:grpSpPr>
            <a:xfrm>
              <a:off x="1404360" y="2124000"/>
              <a:ext cx="864000" cy="2099160"/>
              <a:chOff x="1404360" y="2124000"/>
              <a:chExt cx="864000" cy="2099160"/>
            </a:xfrm>
          </p:grpSpPr>
          <p:sp>
            <p:nvSpPr>
              <p:cNvPr id="295" name="Line 26"/>
              <p:cNvSpPr/>
              <p:nvPr/>
            </p:nvSpPr>
            <p:spPr>
              <a:xfrm flipV="1">
                <a:off x="1431720" y="3176640"/>
                <a:ext cx="8366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27"/>
              <p:cNvSpPr/>
              <p:nvPr/>
            </p:nvSpPr>
            <p:spPr>
              <a:xfrm>
                <a:off x="1404360" y="30319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8"/>
              <p:cNvSpPr/>
              <p:nvPr/>
            </p:nvSpPr>
            <p:spPr>
              <a:xfrm>
                <a:off x="1404360" y="212400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30"/>
            <p:cNvGrpSpPr/>
            <p:nvPr/>
          </p:nvGrpSpPr>
          <p:grpSpPr>
            <a:xfrm>
              <a:off x="3276000" y="2205000"/>
              <a:ext cx="864000" cy="2099160"/>
              <a:chOff x="3276000" y="2205000"/>
              <a:chExt cx="864000" cy="2099160"/>
            </a:xfrm>
          </p:grpSpPr>
          <p:sp>
            <p:nvSpPr>
              <p:cNvPr id="299" name="Line 31"/>
              <p:cNvSpPr/>
              <p:nvPr/>
            </p:nvSpPr>
            <p:spPr>
              <a:xfrm flipV="1">
                <a:off x="3303360" y="3257640"/>
                <a:ext cx="8366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3276000" y="31129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3"/>
              <p:cNvSpPr/>
              <p:nvPr/>
            </p:nvSpPr>
            <p:spPr>
              <a:xfrm>
                <a:off x="3276000" y="220500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Oval 34"/>
            <p:cNvSpPr/>
            <p:nvPr/>
          </p:nvSpPr>
          <p:spPr>
            <a:xfrm>
              <a:off x="2916360" y="3141720"/>
              <a:ext cx="215640" cy="216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-325440" y="395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(4) -     x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2482200" y="135000"/>
            <a:ext cx="864000" cy="2099160"/>
            <a:chOff x="2482200" y="135000"/>
            <a:chExt cx="864000" cy="2099160"/>
          </a:xfrm>
        </p:grpSpPr>
        <p:sp>
          <p:nvSpPr>
            <p:cNvPr id="305" name="Line 4"/>
            <p:cNvSpPr/>
            <p:nvPr/>
          </p:nvSpPr>
          <p:spPr>
            <a:xfrm flipV="1">
              <a:off x="2509560" y="1187640"/>
              <a:ext cx="83664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"/>
            <p:cNvSpPr/>
            <p:nvPr/>
          </p:nvSpPr>
          <p:spPr>
            <a:xfrm>
              <a:off x="2482200" y="10429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"/>
            <p:cNvSpPr/>
            <p:nvPr/>
          </p:nvSpPr>
          <p:spPr>
            <a:xfrm>
              <a:off x="2482200" y="1350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5075280" y="2565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6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4205520" y="26370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348000" y="4149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≥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7"/>
          <p:cNvGrpSpPr/>
          <p:nvPr/>
        </p:nvGrpSpPr>
        <p:grpSpPr>
          <a:xfrm>
            <a:off x="6660360" y="2133720"/>
            <a:ext cx="2113200" cy="2099160"/>
            <a:chOff x="6660360" y="2133720"/>
            <a:chExt cx="2113200" cy="2099160"/>
          </a:xfrm>
        </p:grpSpPr>
        <p:grpSp>
          <p:nvGrpSpPr>
            <p:cNvPr id="312" name="Group 10"/>
            <p:cNvGrpSpPr/>
            <p:nvPr/>
          </p:nvGrpSpPr>
          <p:grpSpPr>
            <a:xfrm>
              <a:off x="7524360" y="2133720"/>
              <a:ext cx="864000" cy="2099160"/>
              <a:chOff x="7524360" y="2133720"/>
              <a:chExt cx="864000" cy="2099160"/>
            </a:xfrm>
          </p:grpSpPr>
          <p:sp>
            <p:nvSpPr>
              <p:cNvPr id="313" name="Line 11"/>
              <p:cNvSpPr/>
              <p:nvPr/>
            </p:nvSpPr>
            <p:spPr>
              <a:xfrm flipV="1">
                <a:off x="7551720" y="3186360"/>
                <a:ext cx="836640" cy="1440"/>
              </a:xfrm>
              <a:prstGeom prst="line">
                <a:avLst/>
              </a:prstGeom>
              <a:ln w="7632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12"/>
              <p:cNvSpPr/>
              <p:nvPr/>
            </p:nvSpPr>
            <p:spPr>
              <a:xfrm>
                <a:off x="7524360" y="304164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66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3"/>
              <p:cNvSpPr/>
              <p:nvPr/>
            </p:nvSpPr>
            <p:spPr>
              <a:xfrm>
                <a:off x="7524360" y="21337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6"/>
            <p:cNvSpPr/>
            <p:nvPr/>
          </p:nvSpPr>
          <p:spPr>
            <a:xfrm>
              <a:off x="6660360" y="2492280"/>
              <a:ext cx="211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(-    )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2"/>
          <p:cNvGrpSpPr/>
          <p:nvPr/>
        </p:nvGrpSpPr>
        <p:grpSpPr>
          <a:xfrm>
            <a:off x="597960" y="2060640"/>
            <a:ext cx="3614760" cy="2180160"/>
            <a:chOff x="597960" y="2060640"/>
            <a:chExt cx="3614760" cy="2180160"/>
          </a:xfrm>
        </p:grpSpPr>
        <p:sp>
          <p:nvSpPr>
            <p:cNvPr id="318" name="Text Box 20"/>
            <p:cNvSpPr/>
            <p:nvPr/>
          </p:nvSpPr>
          <p:spPr>
            <a:xfrm>
              <a:off x="1318680" y="25005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1"/>
            <p:cNvGrpSpPr/>
            <p:nvPr/>
          </p:nvGrpSpPr>
          <p:grpSpPr>
            <a:xfrm>
              <a:off x="597960" y="2060640"/>
              <a:ext cx="864000" cy="2099160"/>
              <a:chOff x="597960" y="2060640"/>
              <a:chExt cx="864000" cy="2099160"/>
            </a:xfrm>
          </p:grpSpPr>
          <p:sp>
            <p:nvSpPr>
              <p:cNvPr id="320" name="Line 22"/>
              <p:cNvSpPr/>
              <p:nvPr/>
            </p:nvSpPr>
            <p:spPr>
              <a:xfrm flipV="1">
                <a:off x="625320" y="3113280"/>
                <a:ext cx="8366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23"/>
              <p:cNvSpPr/>
              <p:nvPr/>
            </p:nvSpPr>
            <p:spPr>
              <a:xfrm>
                <a:off x="597960" y="296856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24"/>
              <p:cNvSpPr/>
              <p:nvPr/>
            </p:nvSpPr>
            <p:spPr>
              <a:xfrm>
                <a:off x="597960" y="206064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25"/>
            <p:cNvGrpSpPr/>
            <p:nvPr/>
          </p:nvGrpSpPr>
          <p:grpSpPr>
            <a:xfrm>
              <a:off x="3044160" y="2141640"/>
              <a:ext cx="864000" cy="2099160"/>
              <a:chOff x="3044160" y="2141640"/>
              <a:chExt cx="864000" cy="2099160"/>
            </a:xfrm>
          </p:grpSpPr>
          <p:sp>
            <p:nvSpPr>
              <p:cNvPr id="324" name="Line 26"/>
              <p:cNvSpPr/>
              <p:nvPr/>
            </p:nvSpPr>
            <p:spPr>
              <a:xfrm flipV="1">
                <a:off x="3071520" y="3194280"/>
                <a:ext cx="836640" cy="1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27"/>
              <p:cNvSpPr/>
              <p:nvPr/>
            </p:nvSpPr>
            <p:spPr>
              <a:xfrm>
                <a:off x="3044160" y="304956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8"/>
              <p:cNvSpPr/>
              <p:nvPr/>
            </p:nvSpPr>
            <p:spPr>
              <a:xfrm>
                <a:off x="3044160" y="214164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Oval 29"/>
            <p:cNvSpPr/>
            <p:nvPr/>
          </p:nvSpPr>
          <p:spPr>
            <a:xfrm>
              <a:off x="2109600" y="3078360"/>
              <a:ext cx="216000" cy="216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2251800" y="2644920"/>
              <a:ext cx="196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(      )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2543040" y="250200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0" y="333360"/>
            <a:ext cx="946800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根据不等式的性质，把下列不等式化成 </a:t>
            </a:r>
            <a:r>
              <a:rPr b="1" i="1" lang="en-US" sz="4800" spc="-1" strike="noStrike">
                <a:solidFill>
                  <a:srgbClr val="ff6699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ff6699"/>
                </a:solidFill>
                <a:latin typeface="Times New Roman"/>
              </a:rPr>
              <a:t>＜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a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en-US" sz="4800" spc="-1" strike="noStrike">
                <a:solidFill>
                  <a:srgbClr val="ff6699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ff6699"/>
                </a:solidFill>
                <a:latin typeface="Times New Roman"/>
              </a:rPr>
              <a:t>＞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形式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x-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x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－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＜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Object 5" descr=""/>
          <p:cNvPicPr/>
          <p:nvPr/>
        </p:nvPicPr>
        <p:blipFill>
          <a:blip r:embed="rId1"/>
          <a:stretch/>
        </p:blipFill>
        <p:spPr>
          <a:xfrm>
            <a:off x="2484360" y="5013360"/>
            <a:ext cx="7542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0" y="1197000"/>
            <a:ext cx="914400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解下列不等式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把解集在数轴上表示出来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-7 &gt; 26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x&lt;5x+1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&gt;50 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x&gt;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7" descr=""/>
          <p:cNvPicPr/>
          <p:nvPr/>
        </p:nvPicPr>
        <p:blipFill>
          <a:blip r:embed="rId1"/>
          <a:stretch/>
        </p:blipFill>
        <p:spPr>
          <a:xfrm>
            <a:off x="1763640" y="4724280"/>
            <a:ext cx="1136880" cy="1449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3"/>
          <p:cNvSpPr/>
          <p:nvPr/>
        </p:nvSpPr>
        <p:spPr>
          <a:xfrm>
            <a:off x="395280" y="0"/>
            <a:ext cx="77770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变  式  训  练，培  养  能  力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692360" y="3500280"/>
            <a:ext cx="1295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09564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姚体"/>
              </a:rPr>
              <a:t>课堂小结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943280" y="2060640"/>
            <a:ext cx="7200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谈一谈这节课的收获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解不等式时我们应该          注意哪些地方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于哪些地方还存在疑问？互相交流一下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490920" y="417600"/>
            <a:ext cx="360216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方正姚体"/>
              </a:rPr>
              <a:t>课时小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6920" y="206064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谈谈你这节课的收获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2"/>
          <p:cNvSpPr txBox="1"/>
          <p:nvPr/>
        </p:nvSpPr>
        <p:spPr>
          <a:xfrm>
            <a:off x="1187280" y="476280"/>
            <a:ext cx="28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1260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速记小窍门</a:t>
            </a:r>
            <a:endParaRPr b="1" lang="en-US" sz="4800" spc="1" strike="noStrike">
              <a:ln cap="sq" w="1260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41" name="Picture 3" descr="misc079s[1]"/>
          <p:cNvPicPr/>
          <p:nvPr/>
        </p:nvPicPr>
        <p:blipFill>
          <a:blip r:embed="rId1"/>
          <a:stretch/>
        </p:blipFill>
        <p:spPr>
          <a:xfrm>
            <a:off x="0" y="333360"/>
            <a:ext cx="1162080" cy="1504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1835280" y="1168560"/>
            <a:ext cx="7777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性质三，不难辨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乘除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正数号不变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负数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是个司令员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符号见它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把头转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54705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"/>
          <p:cNvGrpSpPr/>
          <p:nvPr/>
        </p:nvGrpSpPr>
        <p:grpSpPr>
          <a:xfrm>
            <a:off x="900000" y="2924280"/>
            <a:ext cx="2592360" cy="1512720"/>
            <a:chOff x="900000" y="2924280"/>
            <a:chExt cx="2592360" cy="1512720"/>
          </a:xfrm>
        </p:grpSpPr>
        <p:pic>
          <p:nvPicPr>
            <p:cNvPr id="51" name="Picture 4" descr="2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25923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1485720" y="3375000"/>
              <a:ext cx="150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不等式的解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755640" y="1484280"/>
            <a:ext cx="3425400" cy="1730160"/>
            <a:chOff x="755640" y="1484280"/>
            <a:chExt cx="3425400" cy="1730160"/>
          </a:xfrm>
        </p:grpSpPr>
        <p:pic>
          <p:nvPicPr>
            <p:cNvPr id="54" name="Picture 7" descr="2"/>
            <p:cNvPicPr/>
            <p:nvPr/>
          </p:nvPicPr>
          <p:blipFill>
            <a:blip r:embed="rId3"/>
            <a:stretch/>
          </p:blipFill>
          <p:spPr>
            <a:xfrm>
              <a:off x="755640" y="1484280"/>
              <a:ext cx="342540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1245240" y="2040840"/>
              <a:ext cx="24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性质</a:t>
              </a:r>
              <a:r>
                <a:rPr b="1" lang="en-US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(3</a:t>
              </a: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条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2698920" y="465120"/>
            <a:ext cx="3312720" cy="1668240"/>
            <a:chOff x="2698920" y="465120"/>
            <a:chExt cx="3312720" cy="1668240"/>
          </a:xfrm>
        </p:grpSpPr>
        <p:pic>
          <p:nvPicPr>
            <p:cNvPr id="57" name="Picture 10" descr="2"/>
            <p:cNvPicPr/>
            <p:nvPr/>
          </p:nvPicPr>
          <p:blipFill>
            <a:blip r:embed="rId4"/>
            <a:stretch/>
          </p:blipFill>
          <p:spPr>
            <a:xfrm>
              <a:off x="2698920" y="465120"/>
              <a:ext cx="3312720" cy="16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3365280" y="972360"/>
              <a:ext cx="197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实际应用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6"/>
          <p:cNvGrpSpPr/>
          <p:nvPr/>
        </p:nvGrpSpPr>
        <p:grpSpPr>
          <a:xfrm>
            <a:off x="5686560" y="2708280"/>
            <a:ext cx="3457440" cy="1789200"/>
            <a:chOff x="5686560" y="2708280"/>
            <a:chExt cx="3457440" cy="1789200"/>
          </a:xfrm>
        </p:grpSpPr>
        <p:pic>
          <p:nvPicPr>
            <p:cNvPr id="60" name="Picture 13" descr="2"/>
            <p:cNvPicPr/>
            <p:nvPr/>
          </p:nvPicPr>
          <p:blipFill>
            <a:blip r:embed="rId5"/>
            <a:stretch/>
          </p:blipFill>
          <p:spPr>
            <a:xfrm>
              <a:off x="5686560" y="2708280"/>
              <a:ext cx="345744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6443640" y="3213360"/>
              <a:ext cx="206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不等式组的应用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5292720" y="1125360"/>
            <a:ext cx="3600000" cy="1581120"/>
            <a:chOff x="5292720" y="1125360"/>
            <a:chExt cx="3600000" cy="1581120"/>
          </a:xfrm>
        </p:grpSpPr>
        <p:pic>
          <p:nvPicPr>
            <p:cNvPr id="63" name="Picture 16" descr="2"/>
            <p:cNvPicPr/>
            <p:nvPr/>
          </p:nvPicPr>
          <p:blipFill>
            <a:blip r:embed="rId6"/>
            <a:stretch/>
          </p:blipFill>
          <p:spPr>
            <a:xfrm>
              <a:off x="5292720" y="1125360"/>
              <a:ext cx="36000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7"/>
            <p:cNvSpPr/>
            <p:nvPr/>
          </p:nvSpPr>
          <p:spPr>
            <a:xfrm>
              <a:off x="5919120" y="1527120"/>
              <a:ext cx="26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解不等式组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5"/>
          <p:cNvGrpSpPr/>
          <p:nvPr/>
        </p:nvGrpSpPr>
        <p:grpSpPr>
          <a:xfrm>
            <a:off x="4356000" y="4365720"/>
            <a:ext cx="1079640" cy="2089080"/>
            <a:chOff x="4356000" y="4365720"/>
            <a:chExt cx="1079640" cy="2089080"/>
          </a:xfrm>
        </p:grpSpPr>
        <p:sp>
          <p:nvSpPr>
            <p:cNvPr id="66" name="AutoShape 23"/>
            <p:cNvSpPr/>
            <p:nvPr/>
          </p:nvSpPr>
          <p:spPr>
            <a:xfrm>
              <a:off x="4575240" y="4365720"/>
              <a:ext cx="645840" cy="2089080"/>
            </a:xfrm>
            <a:custGeom>
              <a:avLst/>
              <a:gdLst>
                <a:gd name="textAreaLeft" fmla="*/ 31320 w 645840"/>
                <a:gd name="textAreaRight" fmla="*/ 614520 w 645840"/>
                <a:gd name="textAreaTop" fmla="*/ 31320 h 2089080"/>
                <a:gd name="textAreaBottom" fmla="*/ 2057760 h 2089080"/>
              </a:gdLst>
              <a:ahLst/>
              <a:rect l="textAreaLeft" t="textAreaTop" r="textAreaRight" b="textAreaBottom"/>
              <a:pathLst>
                <a:path w="21600" h="69842">
                  <a:moveTo>
                    <a:pt x="3600" y="0"/>
                  </a:moveTo>
                  <a:arcTo wR="3600" hR="3600" stAng="16200000" swAng="-5400000"/>
                  <a:lnTo>
                    <a:pt x="0" y="66242"/>
                  </a:lnTo>
                  <a:arcTo wR="3600" hR="3600" stAng="10800000" swAng="-5400000"/>
                  <a:lnTo>
                    <a:pt x="18000" y="69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4"/>
            <p:cNvSpPr/>
            <p:nvPr/>
          </p:nvSpPr>
          <p:spPr>
            <a:xfrm>
              <a:off x="4356000" y="4365720"/>
              <a:ext cx="107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不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组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333360"/>
            <a:ext cx="95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理解等式的基本性质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会用不等式的基本性质解一些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的不等式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体会数学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类比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4581360"/>
            <a:ext cx="95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等式的性质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5516640"/>
            <a:ext cx="95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难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的性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探究与运用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681120"/>
            <a:ext cx="821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2200" y="101268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、观察下面这几个式子，完成下面的填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87280" y="17640"/>
            <a:ext cx="24750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华文行楷"/>
              </a:rPr>
              <a:t>回忆思考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66ff33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1128600" y="1655640"/>
            <a:ext cx="1812960" cy="662400"/>
            <a:chOff x="1128600" y="1655640"/>
            <a:chExt cx="1812960" cy="662400"/>
          </a:xfrm>
        </p:grpSpPr>
        <p:pic>
          <p:nvPicPr>
            <p:cNvPr id="75" name="Object 6" descr=""/>
            <p:cNvPicPr/>
            <p:nvPr/>
          </p:nvPicPr>
          <p:blipFill>
            <a:blip r:embed="rId1"/>
            <a:stretch/>
          </p:blipFill>
          <p:spPr>
            <a:xfrm>
              <a:off x="1689120" y="1655640"/>
              <a:ext cx="1252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7"/>
            <p:cNvSpPr/>
            <p:nvPr/>
          </p:nvSpPr>
          <p:spPr>
            <a:xfrm>
              <a:off x="1128600" y="17366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1179360" y="2276640"/>
            <a:ext cx="3228840" cy="666720"/>
            <a:chOff x="1179360" y="2276640"/>
            <a:chExt cx="3228840" cy="666720"/>
          </a:xfrm>
        </p:grpSpPr>
        <p:pic>
          <p:nvPicPr>
            <p:cNvPr id="78" name="Object 9" descr=""/>
            <p:cNvPicPr/>
            <p:nvPr/>
          </p:nvPicPr>
          <p:blipFill>
            <a:blip r:embed="rId2"/>
            <a:stretch/>
          </p:blipFill>
          <p:spPr>
            <a:xfrm>
              <a:off x="1724040" y="2276640"/>
              <a:ext cx="268416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0"/>
            <p:cNvSpPr/>
            <p:nvPr/>
          </p:nvSpPr>
          <p:spPr>
            <a:xfrm>
              <a:off x="1179360" y="236196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1"/>
          <p:cNvSpPr/>
          <p:nvPr/>
        </p:nvSpPr>
        <p:spPr>
          <a:xfrm>
            <a:off x="6948360" y="465300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行楷"/>
              </a:rPr>
              <a:t>同一个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755640" y="53737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行楷"/>
              </a:rPr>
              <a:t>同一个整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0" y="4660920"/>
            <a:ext cx="98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等式的两边都加上（或减去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______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仿宋_GB2312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或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  <a:ea typeface="仿宋_GB2312"/>
              </a:rPr>
              <a:t>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，所得的结果仍是等式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24000" y="3357720"/>
            <a:ext cx="4321080" cy="5814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f00ff"/>
              </a:gs>
              <a:gs pos="100000">
                <a:srgbClr val="00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等式的基本性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681120"/>
            <a:ext cx="821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7440" y="101268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、继续观察下面这几个式子，完成下面的填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87280" y="17640"/>
            <a:ext cx="24750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华文行楷"/>
              </a:rPr>
              <a:t>回忆思考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66ff33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1128600" y="1655640"/>
            <a:ext cx="1812960" cy="662400"/>
            <a:chOff x="1128600" y="1655640"/>
            <a:chExt cx="1812960" cy="662400"/>
          </a:xfrm>
        </p:grpSpPr>
        <p:pic>
          <p:nvPicPr>
            <p:cNvPr id="88" name="Object 6" descr=""/>
            <p:cNvPicPr/>
            <p:nvPr/>
          </p:nvPicPr>
          <p:blipFill>
            <a:blip r:embed="rId1"/>
            <a:stretch/>
          </p:blipFill>
          <p:spPr>
            <a:xfrm>
              <a:off x="1689120" y="1655640"/>
              <a:ext cx="1252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1128600" y="17366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1179360" y="2327400"/>
            <a:ext cx="2305080" cy="628560"/>
            <a:chOff x="1179360" y="2327400"/>
            <a:chExt cx="2305080" cy="628560"/>
          </a:xfrm>
        </p:grpSpPr>
        <p:pic>
          <p:nvPicPr>
            <p:cNvPr id="91" name="Object 9" descr=""/>
            <p:cNvPicPr/>
            <p:nvPr/>
          </p:nvPicPr>
          <p:blipFill>
            <a:blip r:embed="rId2"/>
            <a:stretch/>
          </p:blipFill>
          <p:spPr>
            <a:xfrm>
              <a:off x="1739880" y="2328840"/>
              <a:ext cx="17445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>
              <a:off x="1179360" y="232740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1"/>
          <p:cNvGrpSpPr/>
          <p:nvPr/>
        </p:nvGrpSpPr>
        <p:grpSpPr>
          <a:xfrm>
            <a:off x="1184400" y="2900520"/>
            <a:ext cx="2050920" cy="1385640"/>
            <a:chOff x="1184400" y="2900520"/>
            <a:chExt cx="2050920" cy="1385640"/>
          </a:xfrm>
        </p:grpSpPr>
        <p:pic>
          <p:nvPicPr>
            <p:cNvPr id="94" name="Object 12" descr=""/>
            <p:cNvPicPr/>
            <p:nvPr/>
          </p:nvPicPr>
          <p:blipFill>
            <a:blip r:embed="rId3"/>
            <a:stretch/>
          </p:blipFill>
          <p:spPr>
            <a:xfrm>
              <a:off x="1803600" y="2900520"/>
              <a:ext cx="1431720" cy="13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3"/>
            <p:cNvSpPr/>
            <p:nvPr/>
          </p:nvSpPr>
          <p:spPr>
            <a:xfrm>
              <a:off x="1184400" y="32828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4"/>
          <p:cNvSpPr/>
          <p:nvPr/>
        </p:nvSpPr>
        <p:spPr>
          <a:xfrm>
            <a:off x="6504120" y="5226120"/>
            <a:ext cx="26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行楷"/>
              </a:rPr>
              <a:t>同一个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419040" y="5261040"/>
            <a:ext cx="8277120" cy="1068840"/>
            <a:chOff x="419040" y="5261040"/>
            <a:chExt cx="8277120" cy="1068840"/>
          </a:xfrm>
        </p:grpSpPr>
        <p:sp>
          <p:nvSpPr>
            <p:cNvPr id="98" name="Text Box 16"/>
            <p:cNvSpPr/>
            <p:nvPr/>
          </p:nvSpPr>
          <p:spPr>
            <a:xfrm>
              <a:off x="419040" y="5261040"/>
              <a:ext cx="8277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ff"/>
                  </a:solidFill>
                  <a:latin typeface="Calibri"/>
                  <a:ea typeface="仿宋_GB2312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等式的两边都乘以（或除以）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Calibri"/>
                  <a:ea typeface="仿宋_GB2312"/>
                </a:rPr>
                <a:t>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（除数不能为零），所得的结果仍是等式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6634080" y="5767560"/>
              <a:ext cx="2008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8"/>
          <p:cNvSpPr/>
          <p:nvPr/>
        </p:nvSpPr>
        <p:spPr>
          <a:xfrm>
            <a:off x="466560" y="4437000"/>
            <a:ext cx="3567240" cy="5814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f00ff"/>
              </a:gs>
              <a:gs pos="100000">
                <a:srgbClr val="00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等式的基本性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4643280" y="189000"/>
            <a:ext cx="4500720" cy="3570120"/>
            <a:chOff x="4643280" y="189000"/>
            <a:chExt cx="4500720" cy="3570120"/>
          </a:xfrm>
        </p:grpSpPr>
        <p:sp>
          <p:nvSpPr>
            <p:cNvPr id="102" name="AutoShape 3"/>
            <p:cNvSpPr/>
            <p:nvPr/>
          </p:nvSpPr>
          <p:spPr>
            <a:xfrm>
              <a:off x="5867280" y="189000"/>
              <a:ext cx="3276720" cy="1224000"/>
            </a:xfrm>
            <a:prstGeom prst="wedgeEllipseCallout">
              <a:avLst>
                <a:gd name="adj1" fmla="val -53777"/>
                <a:gd name="adj2" fmla="val 8968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4"/>
            <p:cNvGrpSpPr/>
            <p:nvPr/>
          </p:nvGrpSpPr>
          <p:grpSpPr>
            <a:xfrm>
              <a:off x="4643280" y="476280"/>
              <a:ext cx="4418640" cy="3282840"/>
              <a:chOff x="4643280" y="476280"/>
              <a:chExt cx="4418640" cy="3282840"/>
            </a:xfrm>
          </p:grpSpPr>
          <p:pic>
            <p:nvPicPr>
              <p:cNvPr id="104" name="Picture 5" descr="u=4177772558,2334541367&amp;fm=0&amp;gp=0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1916280"/>
                <a:ext cx="241128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>
                <a:off x="6382440" y="476280"/>
                <a:ext cx="267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我今年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0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岁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 Box 7"/>
          <p:cNvSpPr/>
          <p:nvPr/>
        </p:nvSpPr>
        <p:spPr>
          <a:xfrm>
            <a:off x="4067280" y="530064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  <a:ea typeface="바탕"/>
              </a:rPr>
              <a:t>70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179280" y="0"/>
            <a:ext cx="5761080" cy="3141720"/>
            <a:chOff x="179280" y="0"/>
            <a:chExt cx="5761080" cy="3141720"/>
          </a:xfrm>
        </p:grpSpPr>
        <p:sp>
          <p:nvSpPr>
            <p:cNvPr id="108" name="AutoShape 9"/>
            <p:cNvSpPr/>
            <p:nvPr/>
          </p:nvSpPr>
          <p:spPr>
            <a:xfrm>
              <a:off x="2195280" y="0"/>
              <a:ext cx="3527640" cy="1224000"/>
            </a:xfrm>
            <a:prstGeom prst="wedgeEllipseCallout">
              <a:avLst>
                <a:gd name="adj1" fmla="val -61069"/>
                <a:gd name="adj2" fmla="val 50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0"/>
            <p:cNvGrpSpPr/>
            <p:nvPr/>
          </p:nvGrpSpPr>
          <p:grpSpPr>
            <a:xfrm>
              <a:off x="179280" y="260280"/>
              <a:ext cx="5761080" cy="2881440"/>
              <a:chOff x="179280" y="260280"/>
              <a:chExt cx="5761080" cy="2881440"/>
            </a:xfrm>
          </p:grpSpPr>
          <p:pic>
            <p:nvPicPr>
              <p:cNvPr id="110" name="Picture 11" descr="u=289467743,4223942720&amp;fm=0&amp;gp=0"/>
              <p:cNvPicPr/>
              <p:nvPr/>
            </p:nvPicPr>
            <p:blipFill>
              <a:blip r:embed="rId2"/>
              <a:stretch/>
            </p:blipFill>
            <p:spPr>
              <a:xfrm>
                <a:off x="179280" y="765000"/>
                <a:ext cx="2376360" cy="23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 Box 12"/>
              <p:cNvSpPr/>
              <p:nvPr/>
            </p:nvSpPr>
            <p:spPr>
              <a:xfrm>
                <a:off x="2700360" y="260280"/>
                <a:ext cx="324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我今年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0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岁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2" name="1.wav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3.wav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5"/>
          <p:cNvGrpSpPr/>
          <p:nvPr/>
        </p:nvGrpSpPr>
        <p:grpSpPr>
          <a:xfrm>
            <a:off x="395280" y="4076640"/>
            <a:ext cx="7561440" cy="2629080"/>
            <a:chOff x="395280" y="4076640"/>
            <a:chExt cx="7561440" cy="2629080"/>
          </a:xfrm>
        </p:grpSpPr>
        <p:pic>
          <p:nvPicPr>
            <p:cNvPr id="115" name="Picture 16" descr="u=38711922,2857897179&amp;fm=0&amp;gp=0"/>
            <p:cNvPicPr/>
            <p:nvPr/>
          </p:nvPicPr>
          <p:blipFill>
            <a:blip r:embed="rId5"/>
            <a:stretch/>
          </p:blipFill>
          <p:spPr>
            <a:xfrm>
              <a:off x="395280" y="4579920"/>
              <a:ext cx="136692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17"/>
            <p:cNvSpPr/>
            <p:nvPr/>
          </p:nvSpPr>
          <p:spPr>
            <a:xfrm>
              <a:off x="1763640" y="4076640"/>
              <a:ext cx="6193080" cy="1152360"/>
            </a:xfrm>
            <a:prstGeom prst="wedgeEllipseCallout">
              <a:avLst>
                <a:gd name="adj1" fmla="val -52768"/>
                <a:gd name="adj2" fmla="val 3732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1908000" y="4221000"/>
              <a:ext cx="60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你能用不等式表示他们俩年龄的大小关系吗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4.wav" descr=""/>
          <p:cNvPicPr/>
          <p:nvPr/>
        </p:nvPicPr>
        <p:blipFill>
          <a:blip r:embed="rId6"/>
          <a:stretch/>
        </p:blipFill>
        <p:spPr>
          <a:xfrm>
            <a:off x="154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0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7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75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771640" y="604800"/>
            <a:ext cx="602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70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79640" y="19018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7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＋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5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＋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11280" y="34862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7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－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－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41840" y="2239920"/>
            <a:ext cx="35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13832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501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59500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对于上面数的比较</a:t>
            </a: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发现了什么</a:t>
            </a: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65120" y="10666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400040" y="21844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380960" y="317484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516720" y="836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588000" y="3068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572160" y="19270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780000" y="4941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659640" y="4941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684360" y="260280"/>
            <a:ext cx="18666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比较大小</a:t>
            </a:r>
            <a:endParaRPr b="1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152280" y="3230640"/>
            <a:ext cx="38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4467240" y="909720"/>
            <a:ext cx="4748040" cy="3602880"/>
            <a:chOff x="4467240" y="909720"/>
            <a:chExt cx="4748040" cy="3602880"/>
          </a:xfrm>
        </p:grpSpPr>
        <p:sp>
          <p:nvSpPr>
            <p:cNvPr id="137" name="Rectangle 18"/>
            <p:cNvSpPr/>
            <p:nvPr/>
          </p:nvSpPr>
          <p:spPr>
            <a:xfrm>
              <a:off x="4543560" y="3078000"/>
              <a:ext cx="4671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＿＿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5867280" y="90972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＿＿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4467240" y="2011320"/>
              <a:ext cx="4672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＿＿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1"/>
          <p:cNvSpPr/>
          <p:nvPr/>
        </p:nvSpPr>
        <p:spPr>
          <a:xfrm>
            <a:off x="0" y="414972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36360" y="41497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708360" y="4076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6588000" y="4076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2:32:32Z</dcterms:created>
  <dc:creator>User</dc:creator>
  <dc:description/>
  <dc:language>en-US</dc:language>
  <cp:lastModifiedBy>Administrator</cp:lastModifiedBy>
  <dcterms:modified xsi:type="dcterms:W3CDTF">2018-12-28T07:46:47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